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071-4CA4-4DF2-AE61-40E62955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F39-A441-446F-9EE4-B81C81A3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0235-4C8B-443F-BE77-2D448A56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E30-63F5-4BAD-AB89-0272E120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088-91B7-425B-8D57-1D853A54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950-1FC8-42BD-AF67-596F7E1A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5D63-A08B-4BA6-A840-105F1E2C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C85F-F91B-42B7-84EA-5F15F44F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DD5-F299-49E3-AFD6-687E22A6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BCE-18DC-42A5-8767-F2261853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5F1-946D-4F38-BCB2-8D9A31C3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086F-B7C0-41DC-9184-20744AE6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25EC-2EB3-43C3-8951-529AF6CB9B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52360" y="0"/>
            <a:ext cx="9396360" cy="7031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 Day in the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y Iona B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ppo Light SF"/>
              </a:rPr>
              <a:t>Walking To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4913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orning I walk down to the path with my sister, where we wait for her friends. When they come my sister goes off and I wait for Jade and Katie. We then walk to school. This a view of the maths block where we wait to go into tutor time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ppo Light SF"/>
              </a:rPr>
              <a:t>Tutor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537336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ays we spend some time in the maths block where we have tutor time and check our journals. This is a close up of the maths block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ppo Light SF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522900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utor time we go to our lessons. We have 6 lessons on a normal day but only 5 lessons on a Friday. This is the science bl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95640" y="14130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ppo Light SF"/>
              </a:rPr>
              <a:t>Break time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530064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2 periods (lessons) we have our break. This is the Elliot  room where some people spend their break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ppo Light SF"/>
              </a:rPr>
              <a:t>Lunch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51577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nother 2 periods, we go to lunch. Most people eat in the canteen, but you can eat anywhere. This is the cantee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ppo Light SF"/>
              </a:rPr>
              <a:t>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54450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2 periods and it’s time to go home. This is a view of the back g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0:44:12Z</dcterms:created>
  <dc:creator>8ionabooth</dc:creator>
  <dc:description/>
  <dc:language>en-US</dc:language>
  <cp:lastModifiedBy>Technical Resources Manager</cp:lastModifiedBy>
  <dcterms:modified xsi:type="dcterms:W3CDTF">2008-11-20T08:24:06Z</dcterms:modified>
  <cp:revision>4</cp:revision>
  <dc:subject/>
  <dc:title>A Normal Day at Gordano </dc:title>
</cp:coreProperties>
</file>